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50920" y="1412640"/>
            <a:ext cx="4752720" cy="36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55FC-9BA9-4522-851F-63F5FD65937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10FA-139A-4D23-809A-5EB03D1E32C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C7FE-6915-4F45-BAB3-F2BC2B248BE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F72B-C183-4CFD-96A0-F528FEA7020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830A-DFF9-4854-BD38-EC315F64EEC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D435-950A-48D5-AA53-F3A842B077A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CC02-A278-4BE5-B93A-146B10F020F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1BD8-236B-4923-B11F-928A6CA6FA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784B-BCE2-42E0-ACBA-F200826E222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7DC1-0217-4A3F-80E2-51314D0AE8B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9B0D-7512-4FA0-872F-EDAAB5D5B9A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9A93-B10B-43C3-AA34-2668B557687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9AC2-A0FD-4C5B-BD28-D07BC0E4CC5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BF64-568E-422C-9611-AD10E25EA8E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7FF-5BF3-46DE-895E-00E7D726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1D6-17B1-4F3B-AE0B-8E810A53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08B-C5BE-4947-8FB3-78A70C2B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828-DB86-4847-A38D-1F5F8447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1F3D-BFE3-4760-A6CF-1D6198AF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1874-7755-431E-8AAF-C4A2E233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925B-F0DF-47D1-9A01-E0F2C113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3883-AED2-47B3-A706-9DECAA9B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E90B-463D-4749-8F12-5EC415F9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C4AD-3356-44C4-943D-833710E2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A413-33AB-4F6D-B8C4-0701C396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5A67-7C74-41B3-AA14-9477C91D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1FE4-849A-4D60-A395-5E3C4416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AEFF-B63A-4535-9287-D888995D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5BBF-5177-4398-94FB-5BBE778D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EBA9-994C-4653-BD68-13E554BE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71C0-D095-4373-9CC1-AA34B759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7CCE-8362-4750-8742-495462AD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A00-EA21-481B-8E6F-D46215DD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64E-334A-40AE-B825-B62DE025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CDC9-AA99-4ACA-96F5-2327C036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8D43-A247-449B-A59E-D33136CA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255F-A77E-48CC-AEE3-1BAE6E15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25E-017E-4459-BC34-EAA4B3D3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30DE-307B-4D07-9FE9-D1FC5FC437B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B876-4DC9-4A3D-B53C-F4B8BFE5769C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rdenman@thetourismcompany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logo_unwto_ppt.jpg"/>
          <p:cNvPicPr/>
          <p:nvPr/>
        </p:nvPicPr>
        <p:blipFill>
          <a:blip r:embed="rId1"/>
          <a:stretch/>
        </p:blipFill>
        <p:spPr>
          <a:xfrm>
            <a:off x="517680" y="0"/>
            <a:ext cx="9871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Conector recto 4"/>
          <p:cNvSpPr/>
          <p:nvPr/>
        </p:nvSpPr>
        <p:spPr>
          <a:xfrm>
            <a:off x="4089240" y="0"/>
            <a:ext cx="0" cy="685800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7"/>
          <p:cNvSpPr/>
          <p:nvPr/>
        </p:nvSpPr>
        <p:spPr>
          <a:xfrm flipH="1">
            <a:off x="517680" y="2540160"/>
            <a:ext cx="8626320" cy="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ector recto 11"/>
          <p:cNvSpPr/>
          <p:nvPr/>
        </p:nvSpPr>
        <p:spPr>
          <a:xfrm>
            <a:off x="6654960" y="0"/>
            <a:ext cx="0" cy="254016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2"/>
          <p:cNvSpPr/>
          <p:nvPr/>
        </p:nvSpPr>
        <p:spPr>
          <a:xfrm>
            <a:off x="517680" y="2540160"/>
            <a:ext cx="3571560" cy="4317840"/>
          </a:xfrm>
          <a:prstGeom prst="rect">
            <a:avLst/>
          </a:prstGeom>
          <a:solidFill>
            <a:srgbClr val="c8c9e8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552600" y="2784600"/>
            <a:ext cx="355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REGIONAL COAST ST G&amp;M SEMIN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Ada, Gh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October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4 CuadroTexto"/>
          <p:cNvSpPr/>
          <p:nvPr/>
        </p:nvSpPr>
        <p:spPr>
          <a:xfrm>
            <a:off x="4211640" y="270828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MS PGothic"/>
              </a:rPr>
              <a:t>Use of Economic Incen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7140478"/>
          <p:cNvPicPr/>
          <p:nvPr/>
        </p:nvPicPr>
        <p:blipFill>
          <a:blip r:embed="rId3"/>
          <a:stretch/>
        </p:blipFill>
        <p:spPr>
          <a:xfrm>
            <a:off x="4235400" y="468360"/>
            <a:ext cx="2336760" cy="182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Content Placeholder 3" descr=""/>
          <p:cNvPicPr/>
          <p:nvPr/>
        </p:nvPicPr>
        <p:blipFill>
          <a:blip r:embed="rId4"/>
          <a:stretch/>
        </p:blipFill>
        <p:spPr>
          <a:xfrm>
            <a:off x="6726240" y="517680"/>
            <a:ext cx="23702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Recommendations for pursuing economic instruments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Understand the issues and the priorities for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onsider whether economic incentives are appropriate instruments to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Look at the existing provision of subsidies and other instruments and their effect on sustainability in the tourism sector, with a view to amend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larify policies over pricing and charging for the use of resources and management of waste in the tourism sector and consider any changes in their ap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Ensure that any existing and future sustainability incentives are clearly identified and promoted to tourism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Review policies and practice for charging for admission to protected areas and other designated sites and the use of resulting reven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Recommendations for pursuing economic instruments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3960" y="90792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Review policies and practice for the granting of rights and concessions for the pursuit of tourism activ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onsider how certification schemes or other identification processes could be used more effectively in the application and impact of economic incen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Relate economic incentives to the promotion of Corporate Social Respon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Review and seek to strengthen the impact of actions to promote and support alternative livelihoods based on tour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Focus marketing on tourism products and activities that meet sustainability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ommunicate the economic advantages of adopting a sustainable approach to tour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QUESTION FOR DISCUSSION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y some good and practical ways in which economic incentives could be effectively used to improve the sustainability of coastal tour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chard Den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enman@thetourismcompany.co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Basis of this presentation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aper 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The role of economic incentives in the governance and management of sustainable tourism in coast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KS T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fluencing Coastal Tourism Development and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The use of economic incentives in sustainable development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garded as a key tool since Earth Summit, Rio in 199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ernalise costs ‘Polluter Pays’ princi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cus on incentives for biodiversity con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ush to phase out harmful incen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derstand economic value –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e Economics of Ecosystems and Biodiversity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G8+5, 200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k to livelihoods and poverty re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ke conservation economically attra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The use of economic incentives in sustainable development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ypes of economic incen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xes and subsidies (including reforming exist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dable perm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icing and char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trance / user f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rket creation – e.g. based on labe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nds and deposit sche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edit – including micro-cred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ensation payments – e.g. buyo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servation agreements – including payment for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pporting alternative livelih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cession schemes and lease agreement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The use of economic incentives in sustainable development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ome key points in the use of economic incentiv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capacity to implement incentives will v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conomic incentives can often work well with other instr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entives should be simple and focu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equate funding and commitment i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igibility should be clearly def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ed to build acceptance from those impli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ultiple benefits is revenue is also rai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nsitive to the level at which taxes, charges etc. are 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ircumstances may change, requiring regular re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Use of economic incentives in tourism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4392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ecial relationship between tourism and the environment as an economic sector that gains income from biodiversity and clean environ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xes and charges on businesses and tour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change behavi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 a source of inc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nts, loans, credit – as direct support or le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nting conc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with other instruments e.g. cer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2" descr="making tour more sus"/>
          <p:cNvPicPr/>
          <p:nvPr/>
        </p:nvPicPr>
        <p:blipFill>
          <a:blip r:embed="rId1"/>
          <a:stretch/>
        </p:blipFill>
        <p:spPr>
          <a:xfrm>
            <a:off x="5518080" y="1271520"/>
            <a:ext cx="30956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Current use in COAST countri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Promotion Agencies – assist development , but do not promote sustainability (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x relief widely applied to tourism investment – but not linked to sus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me provision of grants and credit for sustainable tourism – especially linked to international initiatives  (e.g. ST-E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tting of taxes and charges on energy, water, waste management, sewerage etc. – not tourism specific (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of admission charges, with some revenue used lo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of concessions and granting of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arious projects to promote alternative livelih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itiatives to identify good practice and create a market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motion of some community-based and sustainable tourism initi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0" t="15890" r="2008" b="34760"/>
          <a:stretch/>
        </p:blipFill>
        <p:spPr>
          <a:xfrm>
            <a:off x="1042920" y="907920"/>
            <a:ext cx="7056360" cy="2233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2"/>
          <a:srcRect l="24537" t="42687" r="28301" b="22890"/>
          <a:stretch/>
        </p:blipFill>
        <p:spPr>
          <a:xfrm>
            <a:off x="1763640" y="3573360"/>
            <a:ext cx="5688000" cy="273708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684360" y="3429000"/>
            <a:ext cx="784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6064" t="10277" r="8052" b="7534"/>
          <a:stretch/>
        </p:blipFill>
        <p:spPr>
          <a:xfrm>
            <a:off x="684360" y="189000"/>
            <a:ext cx="8135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17:39Z</dcterms:created>
  <dc:creator>UNWTO</dc:creator>
  <dc:description/>
  <dc:language>en-US</dc:language>
  <cp:lastModifiedBy>Richard Denman</cp:lastModifiedBy>
  <dcterms:modified xsi:type="dcterms:W3CDTF">2013-10-19T18:14:41Z</dcterms:modified>
  <cp:revision>44</cp:revision>
  <dc:subject/>
  <dc:title>PowerPoint Presentation</dc:title>
</cp:coreProperties>
</file>